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C2EA-A3FC-48AC-B891-FDA4A2DE1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47EE-B303-4E1A-A1C1-B2E819502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C211-3304-4606-85BD-C32A6CC74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2EED-6C36-42DE-B50A-2BB0C88D1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78F9-62CE-40D6-902E-A7BA9E696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45D6-E2A8-4486-B833-67B2BF61C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3712-1280-44AA-9AA1-325340556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918A-DA69-419D-9572-CDA47EC55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4745-E754-418D-8B13-90DE795C7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B456-2ED9-4C41-8CEE-CD7A4E7FF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AAC4-ACF0-4CE8-A6EB-C02D35C96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5ABB-34DB-4C63-A1C6-6079F93CB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7346-DDDC-4D28-BEAE-562B449D3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0BB8-CCA6-4A90-ADD1-2F76DD550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42E1-AEEC-478F-8484-B10605838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AD9B-2A8B-4788-A9A7-2706DC307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4CD6-AAA3-4431-A2FF-EB9135C86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91F3-A4D3-4837-B972-C6373382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F569-47FE-45F7-B9C3-D75EC13BE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F595-E37C-4E23-B64F-7642020D6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C166-B4E9-4A9C-93E0-27A462FD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50A4-D3CD-4795-B16F-DC121E85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0674-5786-4C1F-B7D2-30ADC969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B083-882A-4B24-A40E-AA38A6A1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578B-CC37-4E5A-A119-6B5C0769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3B00-F9A8-44D4-907A-90A05291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20CF-29AA-44DB-936A-8B92D886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BC61-789D-4240-8F20-AE9FBF3F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svitra"/>
          <p:cNvPicPr/>
          <p:nvPr/>
        </p:nvPicPr>
        <p:blipFill>
          <a:blip r:embed="rId2"/>
          <a:srcRect l="0" t="0" r="3300" b="0"/>
          <a:stretch/>
        </p:blipFill>
        <p:spPr>
          <a:xfrm>
            <a:off x="1835280" y="189000"/>
            <a:ext cx="7345080" cy="504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peleks tikai E"/>
          <p:cNvPicPr/>
          <p:nvPr/>
        </p:nvPicPr>
        <p:blipFill>
          <a:blip r:embed="rId3"/>
          <a:stretch/>
        </p:blipFill>
        <p:spPr>
          <a:xfrm>
            <a:off x="1111320" y="1020600"/>
            <a:ext cx="6845400" cy="552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11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611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611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611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611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D9A6-A80C-4156-B9C3-8E6FC6B10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svitra2"/>
          <p:cNvPicPr/>
          <p:nvPr/>
        </p:nvPicPr>
        <p:blipFill>
          <a:blip r:embed="rId4"/>
          <a:srcRect l="60491" t="0" r="0" b="313"/>
          <a:stretch/>
        </p:blipFill>
        <p:spPr>
          <a:xfrm>
            <a:off x="0" y="189000"/>
            <a:ext cx="611280" cy="5032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8" descr="zils"/>
          <p:cNvPicPr/>
          <p:nvPr/>
        </p:nvPicPr>
        <p:blipFill>
          <a:blip r:embed="rId5"/>
          <a:stretch/>
        </p:blipFill>
        <p:spPr>
          <a:xfrm>
            <a:off x="611280" y="189000"/>
            <a:ext cx="1295280" cy="51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94920" y="1700280"/>
            <a:ext cx="84358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Valsts probācijas dienesta individuālais projekts Nr.LV0024</a:t>
            </a:r>
            <a:r>
              <a:rPr b="1" lang="lv-LV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“</a:t>
            </a:r>
            <a:r>
              <a:rPr b="0" lang="lv-LV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Latvijas probācijas un </a:t>
            </a:r>
            <a:br>
              <a:rPr sz="3200"/>
            </a:br>
            <a:r>
              <a:rPr b="0" lang="lv-LV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ieslodzījumu vietu sistēmas </a:t>
            </a:r>
            <a:br>
              <a:rPr sz="3200"/>
            </a:br>
            <a:r>
              <a:rPr b="0" lang="lv-LV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personāla kapacitātes celšana</a:t>
            </a: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”</a:t>
            </a:r>
            <a:r>
              <a:rPr b="0" lang="lv-LV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53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 Moduļa </a:t>
            </a:r>
            <a:endParaRPr b="0" lang="en-US" sz="36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 1 Darbs ar dažādu mērķa grupu klientiem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1.1  </a:t>
            </a:r>
            <a:r>
              <a:rPr b="0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Darbs ar personām ar garīgas veselības traucējumiem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1.2</a:t>
            </a:r>
            <a:r>
              <a:rPr b="0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Darbs ar dzimumnoziedzniekiem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1.3 </a:t>
            </a:r>
            <a:r>
              <a:rPr b="0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Darbs ar  personām ar atkarības problēmām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1.4 </a:t>
            </a:r>
            <a:r>
              <a:rPr b="0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Darbs ar nepilngadīgu likumpārkāpēju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1.5</a:t>
            </a:r>
            <a:r>
              <a:rPr b="0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Darbs ar klientu ar īpašām vajadzībām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1.6 </a:t>
            </a:r>
            <a:r>
              <a:rPr b="0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Darbs ar etniskajām, reliģiskajām, seksuālajām un citām minoritātēm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1.7 </a:t>
            </a:r>
            <a:r>
              <a:rPr b="0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Darbs ar dezadaptētu klientu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1.8 </a:t>
            </a:r>
            <a:r>
              <a:rPr b="0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Darbs ar agresīvu klientu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76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 2 Darba metodes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2.1</a:t>
            </a:r>
            <a:r>
              <a:rPr b="0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Motivējošā intervēšana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2.2</a:t>
            </a:r>
            <a:r>
              <a:rPr b="0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Krīzes intervence – īsterapija vērsta uz atrisinājumu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 3 Prasmju pilnveidošana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3.1</a:t>
            </a:r>
            <a:r>
              <a:rPr b="0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Pārstāvības process tiesā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3.2</a:t>
            </a:r>
            <a:r>
              <a:rPr b="0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Laika plānošana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3.3</a:t>
            </a:r>
            <a:r>
              <a:rPr b="0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Pašpalīdzība, stresa un konflikta vadība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3.4</a:t>
            </a:r>
            <a:r>
              <a:rPr b="0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Grupu vadības pamati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78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4 Probācijas programmas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4.1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rogramma “Emociju menedžments”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4.2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rogramma “Cieņpilnu attiecību veidošana”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4.3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rogramma „Vielu lietošanas menedžments”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4.4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rogramma darbam ar dzimumnoziedzniekiem (brīvības atņemšanas ietādē)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4.5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rogramma „Motivācija izmaiņām”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4.6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rogramma „EQUIP”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4.7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rogramma „Vienkārši par sarežģīto”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4.8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rogramma „Dzīves skola 2”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80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457200" y="907920"/>
          <a:ext cx="8240760" cy="5218200"/>
        </p:xfrm>
        <a:graphic>
          <a:graphicData uri="http://schemas.openxmlformats.org/drawingml/2006/table">
            <a:tbl>
              <a:tblPr/>
              <a:tblGrid>
                <a:gridCol w="1830240"/>
                <a:gridCol w="920880"/>
                <a:gridCol w="1830240"/>
                <a:gridCol w="1828800"/>
                <a:gridCol w="1830600"/>
              </a:tblGrid>
              <a:tr h="61776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egūstamā kvalifikācij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uļu kombinācij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ezīm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moduli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 moduļi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 moduļi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Piespiedu un sabiedriskā darba izpildes organizators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1 (PD+SD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.4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3.1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48dd4"/>
                          </a:solidFill>
                          <a:latin typeface="Times New Roman"/>
                          <a:ea typeface="Times New Roman"/>
                        </a:rPr>
                        <a:t>Kopā 176 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Izlīguma veicēj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2 (IZL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.4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48dd4"/>
                          </a:solidFill>
                          <a:latin typeface="Times New Roman"/>
                          <a:ea typeface="Times New Roman"/>
                        </a:rPr>
                        <a:t>Kopā 180 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Izvērtēšanas ziņojumu sagatavotāj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4 (IZ)+B3 (RVN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.4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3.1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48dd4"/>
                          </a:solidFill>
                          <a:latin typeface="Times New Roman"/>
                          <a:ea typeface="Times New Roman"/>
                        </a:rPr>
                        <a:t>Kopā 188 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Uzraudzības īstenotāj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5 (UZR)+B3 (RVN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2.1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3.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48dd4"/>
                          </a:solidFill>
                          <a:latin typeface="Times New Roman"/>
                          <a:ea typeface="Times New Roman"/>
                        </a:rPr>
                        <a:t>Kopā 212 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17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Probācijas programmu īstenotāj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6 (PP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3.4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vismaz vienu kursu no C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gūstama pēc uzraudzības īstenotāja kvalifikācijas iegūšana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48dd4"/>
                          </a:solidFill>
                          <a:latin typeface="Times New Roman"/>
                          <a:ea typeface="Times New Roman"/>
                        </a:rPr>
                        <a:t>Kopā 142 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A modulis </a:t>
            </a: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-  apgūst visi jaunpieņemtie darbinieki ne ilgāk kā divu mēnešu laikā no darba uzsākšanas datuma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B modulis </a:t>
            </a: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-  apgūst darbinieki, kuri sekmīgi nokārtojuši A moduļa mācību priekšmetu pārbaudījumus un saskaņā ar veicamo funkciju, ne vēlāk kā divu mēnešu laikā pēc A moduļa mācību priekšmetu apgūšanas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Mācību priekšmets </a:t>
            </a:r>
            <a:r>
              <a:rPr b="1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B6</a:t>
            </a: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(„Probācijas programmu īstenošana”) apgūstams pēc B5 mācību priekšmeta („Uzraudzības īstenošana”) pārbaudījuma sekmīgas nokārtošanas un ne ātrāk kā pēc sešiem mēnešiem no darba uzsākšanas datuma. 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 modulis</a:t>
            </a:r>
            <a:r>
              <a:rPr b="1" lang="en-US" sz="2400" spc="-1" strike="noStrike" u="sng">
                <a:solidFill>
                  <a:srgbClr val="06114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- mācību priekšmeti, kas nav noteikti kā obligātie iepriekšminētajā tabulā, apgūstami saskaņā ar tiešā vadītāja pieteikumu bez laika ierobežojumiem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84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Paldies par uzmanību! 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86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sts probācijas dienesta misi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Rūpēties par sabiedrības drošību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6114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Panākt noturīgas izmaiņas likumpārkāpēju dzīvēs, lai viņi vairs neizdara noziegumus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6114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Pasargāt iespējamos upurus, ja paaugstinās nozieguma izdarīšanas risks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56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ā to panāk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Nodrošinot Valsts probācijas dienesta likumā noteikto funkciju </a:t>
            </a:r>
            <a:r>
              <a:rPr b="1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kvalitatīvu</a:t>
            </a: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izpildi - kvalitatīvi veicot  uzticēto darbu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59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 nozīmē kvalitatīva izpil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Darbinieks strādā profesionāli!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Spēj nodrošināt savā darbā gan teorētisko 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(zināšanas), gan praktisko (prasmes) pieeju.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62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Profesionāls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darbinieks ir </a:t>
            </a:r>
            <a:r>
              <a:rPr b="0" lang="en-US" sz="2800" spc="-1" strike="noStrike" u="sng">
                <a:solidFill>
                  <a:srgbClr val="061140"/>
                </a:solidFill>
                <a:uFillTx/>
                <a:latin typeface="Times New Roman"/>
                <a:ea typeface="Times New Roman"/>
              </a:rPr>
              <a:t>kvalitatīvi sagatavots un apmācīts darbam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, ņemot vērā: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iestādes darba specifiku,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dažādas mērķa grupas (klientu kategorijas),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nepieciešamās zināšanas un prasmes katras funkcijas ietvaros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un </a:t>
            </a:r>
            <a:r>
              <a:rPr b="0" lang="en-US" sz="2800" spc="-1" strike="noStrike" u="sng">
                <a:solidFill>
                  <a:srgbClr val="061140"/>
                </a:solidFill>
                <a:uFillTx/>
                <a:latin typeface="Times New Roman"/>
                <a:ea typeface="Times New Roman"/>
              </a:rPr>
              <a:t>spēj iegūtās zināšanas un prasmes pielietot </a:t>
            </a:r>
            <a:r>
              <a:rPr b="1" lang="en-US" sz="2800" spc="-1" strike="noStrike" u="sng">
                <a:solidFill>
                  <a:srgbClr val="061140"/>
                </a:solidFill>
                <a:uFillTx/>
                <a:latin typeface="Times New Roman"/>
                <a:ea typeface="Times New Roman"/>
              </a:rPr>
              <a:t>praksē</a:t>
            </a:r>
            <a:r>
              <a:rPr b="1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pilnveidojot</a:t>
            </a:r>
            <a:r>
              <a:rPr b="1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pieredzi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64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ācību programmas mērķ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Izglītības procesa rezultātā sagatavot kvalificētu probācijas darba speciālistu Valsts probācijas dienesta funkciju īstenošanai.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67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ācību programmas uzdevum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Veidot izpratni par probācijas sistēmas izveidošanos un attīstību, probācijas lomu Latvijas kriminālsodu sistēmā un probācijas darbinieka vispārējo kompetenci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Sniegt zināšanas un attīstīt prasmes Valsts probācijas dienesta funkciju izpildes nodrošināšanā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Pilnveidot profesionālo kompetenci, paaugstinot kvalifikāciju Valsts probācijas dienesta funkciju izpildes nodrošināšanā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Sagatavot darbinieku teorētisko zināšanu pielietošanai praksē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70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Mācību programma tiek veidota pēc moduļu sistēmas, kas sastāv no:</a:t>
            </a:r>
            <a:endParaRPr b="0" lang="en-US" sz="36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A moduļa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A1</a:t>
            </a: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Valsts probācijas dienesta darbība, misija, loma un vieta krimināltiesiskajā sistēmā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A2 </a:t>
            </a: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Uz pierādījumiem balstīta pieeja darbā ar likumpārkāpēju krimināltiesiskajā sistēmā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A3</a:t>
            </a: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Darbinieka tiesības, pienākumi un profesionālā ētika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A4</a:t>
            </a: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Uz klientu orientēta saskarsme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A5 </a:t>
            </a: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Darba drošība darbā ar probācijas klientu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A6</a:t>
            </a: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Datu sistēmu izmantošana darbā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A7</a:t>
            </a: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Lietvedība 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72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611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B</a:t>
            </a:r>
            <a:r>
              <a:rPr b="0" lang="en-US" sz="36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moduļa</a:t>
            </a:r>
            <a:endParaRPr b="0" lang="en-US" sz="3600" spc="-1" strike="noStrike">
              <a:solidFill>
                <a:srgbClr val="06114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B1 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Kriminālsoda – piespiedu darbs un audzinoša rakstura piespiedu līdzekļa – sabiedriskais darbs – izpildes organizēšana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B2  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Izlīguma īstenošana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B3 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Riska un vajadzību novērtēšana (pieaugušajiem)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B4  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Izvērtēšanas ziņojuma sagatavošana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B5  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Uzraudzības īstenošana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B6  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Probācijas programmu īstenošana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74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18:11:22Z</dcterms:created>
  <dc:creator>Kristaps</dc:creator>
  <dc:description/>
  <dc:language>en-US</dc:language>
  <cp:lastModifiedBy>Irina.Purite</cp:lastModifiedBy>
  <dcterms:modified xsi:type="dcterms:W3CDTF">2010-12-13T12:59:02Z</dcterms:modified>
  <cp:revision>76</cp:revision>
  <dc:subject/>
  <dc:title>Slide 1</dc:title>
</cp:coreProperties>
</file>